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8E9-FCA4-49CB-86D2-16274E5B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1730-65FB-4AD3-AEC4-E8E77181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4DC-EAD0-495E-9A37-17A7FE2B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F02-940E-4273-BB9C-7B16DEBD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DCB2-623C-4E82-BD37-86E0A5A5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A568-DDBE-4181-B2D3-D72DA1FA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4A76-95B8-4150-A93A-A61B3507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0302-2A49-4ADF-83CF-EBD568B2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DFB9-56A7-4D95-836C-CEC6FE76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277B-4865-4788-B54A-D9EC201A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20E3-7B7C-4F71-9B39-C0E25FAE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15C-C2A4-468F-810F-B59FD1AE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2B73-A7FA-42B2-8188-0D9FAC44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0F1B-71AE-4224-9F06-3AC66612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9C26-CFEE-4FAC-A3CE-C20820E9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F490-E755-4D71-A636-4593B54D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3809-DEE9-48C8-91F1-552C6BDD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9B7-28D8-435D-AF9B-FCADC78C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5DF-968F-4299-83EB-4C5A1FE6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22D-B023-428E-809C-740B642C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67F-3234-4C28-9BBA-D536697A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DBB-B167-4134-85F0-3682A8A9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A9D-1CAE-4E67-889D-AC3CF51F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A7F-F45B-4D2A-A490-9FD23404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67F9-01F5-42F8-ABC4-0387D20A5A7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D294-F0DF-4344-871D-CDF6D52D265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4c2b"/>
                </a:solidFill>
                <a:latin typeface="Times New Roman"/>
              </a:rPr>
              <a:t>The Imperfect Tense:</a:t>
            </a:r>
            <a:br>
              <a:rPr sz="6600"/>
            </a:br>
            <a:r>
              <a:rPr b="0" lang="en-US" sz="6600" spc="-1" strike="noStrike">
                <a:solidFill>
                  <a:srgbClr val="004c2b"/>
                </a:solidFill>
                <a:latin typeface="Times New Roman"/>
              </a:rPr>
              <a:t>Regular Verbs</a:t>
            </a:r>
            <a:endParaRPr b="0" lang="en-US" sz="6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86200" y="4114800"/>
            <a:ext cx="16095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Here are all the forms of -ar verbs in the imperfect.  Notice the accent mark on the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nosotros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form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5410080"/>
            <a:ext cx="4114800" cy="0"/>
          </a:xfrm>
          <a:prstGeom prst="line">
            <a:avLst/>
          </a:prstGeom>
          <a:ln w="7632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CAMINAR (to walk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b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238520" y="1523880"/>
            <a:ext cx="68580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Since the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and the         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Ud./él/ella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forms are the same, we often use the subject pronouns to avoid confusion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57200"/>
            <a:ext cx="314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560" y="2232000"/>
            <a:ext cx="753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Let’s do a few more verbs.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3962520"/>
            <a:ext cx="556272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PATINAR (to skate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b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086240" y="1600200"/>
            <a:ext cx="68580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USAR (to use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b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476760" y="1523880"/>
            <a:ext cx="68580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JUGAR (to play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b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705360" y="1523880"/>
            <a:ext cx="68580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Now we will learn the -er/-ir verb endings in the imperfect tense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4495680"/>
            <a:ext cx="396252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COMER (to eat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   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426708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2670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VIVIR (to live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19360" y="205740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   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26708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42670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Preterite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You have already learned to talk about the past using the preterite tense for actions that began and ended at a definite time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5562720"/>
            <a:ext cx="426744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440" y="2057400"/>
            <a:ext cx="685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Let’s review once more.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3962520"/>
            <a:ext cx="4495680" cy="0"/>
          </a:xfrm>
          <a:prstGeom prst="line">
            <a:avLst/>
          </a:prstGeom>
          <a:ln w="7632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COMER (to eat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   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426708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42670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VIVIR (to live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9360" y="205740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   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426708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42670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Preterite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na 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antó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en la fiesta anoche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Ana 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sang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 at the party last night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Completed past action.)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The imperfect tense is another way to talk about the past.  We use it to describe actions without any indication of their beginning or end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5867280"/>
            <a:ext cx="373392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na 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antaba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Ana 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was singing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No indication of beginning or end.)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We use the imperfect to talk about actions that happened repeatedly in the past.  In English we often say      “used to” or “would” to express this idea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5486400"/>
            <a:ext cx="251460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Generalmente 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aminaban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mucho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Generally 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they would walk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 a lot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Jugaban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con otros niños de la familia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They used to play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 with other children in the family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Expressions such as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generalmente, a menudo, muchas veces, todos los días, siempre,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nunca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can cue us to use the imperfect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6T21:49:25Z</dcterms:created>
  <dc:creator>NIHS</dc:creator>
  <dc:description/>
  <dc:language>en-US</dc:language>
  <cp:lastModifiedBy>technician</cp:lastModifiedBy>
  <dcterms:modified xsi:type="dcterms:W3CDTF">2011-03-10T17:30:01Z</dcterms:modified>
  <cp:revision>5</cp:revision>
  <dc:subject/>
  <dc:title>No Slide Title</dc:title>
</cp:coreProperties>
</file>